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09232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394160" y="0"/>
            <a:ext cx="2403360" cy="3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0" y="9619920"/>
            <a:ext cx="2946240" cy="3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51280" y="9581760"/>
            <a:ext cx="2946240" cy="3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BC3-5A22-4551-9151-0D65799CDA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DD6-C8E5-42AF-8DD4-B23A889FAC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844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BBB-FEE0-4F0F-87FE-B26B43E57A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90A3-46C9-41E7-81DB-B065AF6011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CE52-A33C-4C63-BD6D-D81EAAD332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382680"/>
            <a:ext cx="3919680" cy="2712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394160" y="0"/>
            <a:ext cx="240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8B13-9111-4ACC-9198-98601D7EB560}" type="datetime5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01C-7701-4048-AA0A-79A4F924C9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72280" cy="372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3240" y="4713120"/>
            <a:ext cx="49910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582120"/>
            <a:ext cx="2946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2B0-A74C-4F22-ACCA-D477EB4012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00240" y="382680"/>
            <a:ext cx="3916440" cy="2711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17320" y="3133440"/>
            <a:ext cx="584028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B94-D2FD-4FCE-906B-F48232E1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A0D-4FD7-4309-B4E1-174F49E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A90-FF2D-4348-905A-0041CC9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D2B-9D16-4289-943B-21B11759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E9B-E697-46F9-A2FD-4C3FE2F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962-E3C2-4BCC-85CB-2C90B8DE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0B6-D1B6-4832-B862-1776CD5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325-6A08-42D7-A75D-44721C6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A93-CC10-4C87-B2F7-DA25E13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D12-5AB8-4A60-A4EE-7175076F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7B3-0B25-499C-8DDA-92A0CE46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012-CB6C-4FC6-B25B-EB749E9F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3a18b6"/>
              </a:gs>
              <a:gs pos="100000">
                <a:srgbClr val="484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0" y="0"/>
            <a:ext cx="9906120" cy="9111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b17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2" descr=""/>
          <p:cNvPicPr/>
          <p:nvPr/>
        </p:nvPicPr>
        <p:blipFill>
          <a:blip r:embed="rId2"/>
          <a:stretch/>
        </p:blipFill>
        <p:spPr>
          <a:xfrm>
            <a:off x="0" y="6170760"/>
            <a:ext cx="2390760" cy="6872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4"/>
          <p:cNvSpPr/>
          <p:nvPr/>
        </p:nvSpPr>
        <p:spPr>
          <a:xfrm>
            <a:off x="2247840" y="6172200"/>
            <a:ext cx="7658280" cy="685800"/>
          </a:xfrm>
          <a:prstGeom prst="rect">
            <a:avLst/>
          </a:prstGeom>
          <a:gradFill rotWithShape="0">
            <a:gsLst>
              <a:gs pos="0">
                <a:srgbClr val="3597e1"/>
              </a:gs>
              <a:gs pos="100000">
                <a:srgbClr val="480a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35"/>
          <p:cNvGrpSpPr/>
          <p:nvPr/>
        </p:nvGrpSpPr>
        <p:grpSpPr>
          <a:xfrm>
            <a:off x="9097920" y="6356520"/>
            <a:ext cx="390240" cy="343800"/>
            <a:chOff x="9097920" y="6356520"/>
            <a:chExt cx="390240" cy="343800"/>
          </a:xfrm>
        </p:grpSpPr>
        <p:sp>
          <p:nvSpPr>
            <p:cNvPr id="7" name="Rectangle 36"/>
            <p:cNvSpPr/>
            <p:nvPr/>
          </p:nvSpPr>
          <p:spPr>
            <a:xfrm>
              <a:off x="9097920" y="6356520"/>
              <a:ext cx="390240" cy="343800"/>
            </a:xfrm>
            <a:prstGeom prst="rect">
              <a:avLst/>
            </a:prstGeom>
            <a:solidFill>
              <a:srgbClr val="b3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37"/>
            <p:cNvSpPr/>
            <p:nvPr/>
          </p:nvSpPr>
          <p:spPr>
            <a:xfrm>
              <a:off x="9192600" y="6525360"/>
              <a:ext cx="168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38"/>
            <p:cNvSpPr/>
            <p:nvPr/>
          </p:nvSpPr>
          <p:spPr>
            <a:xfrm>
              <a:off x="9321480" y="6525360"/>
              <a:ext cx="16452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39"/>
            <p:cNvSpPr/>
            <p:nvPr/>
          </p:nvSpPr>
          <p:spPr>
            <a:xfrm>
              <a:off x="9097920" y="6525360"/>
              <a:ext cx="111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Line 40"/>
          <p:cNvSpPr/>
          <p:nvPr/>
        </p:nvSpPr>
        <p:spPr>
          <a:xfrm flipH="1">
            <a:off x="-360" y="6178680"/>
            <a:ext cx="9906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41"/>
          <p:cNvSpPr/>
          <p:nvPr/>
        </p:nvSpPr>
        <p:spPr>
          <a:xfrm>
            <a:off x="148896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43"/>
          <p:cNvSpPr/>
          <p:nvPr/>
        </p:nvSpPr>
        <p:spPr>
          <a:xfrm>
            <a:off x="226224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Text Box 29"/>
          <p:cNvSpPr/>
          <p:nvPr/>
        </p:nvSpPr>
        <p:spPr>
          <a:xfrm>
            <a:off x="4102920" y="6402240"/>
            <a:ext cx="227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d6ec"/>
                </a:solidFill>
                <a:latin typeface="Arial"/>
              </a:rPr>
              <a:t>Journey of Transformation in V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A920-E93F-45A9-A12F-E0BBF0F16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5"/>
          <p:cNvSpPr/>
          <p:nvPr/>
        </p:nvSpPr>
        <p:spPr>
          <a:xfrm>
            <a:off x="2527200" y="4165560"/>
            <a:ext cx="654372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r Law Song S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enior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TE Edu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2743200" y="711360"/>
            <a:ext cx="6400800" cy="141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Arial"/>
              </a:rPr>
              <a:t>Attracting Students to Vocational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6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3a18b6"/>
              </a:gs>
              <a:gs pos="100000">
                <a:srgbClr val="484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26" descr=""/>
          <p:cNvPicPr/>
          <p:nvPr/>
        </p:nvPicPr>
        <p:blipFill>
          <a:blip r:embed="rId1"/>
          <a:stretch/>
        </p:blipFill>
        <p:spPr>
          <a:xfrm>
            <a:off x="5118120" y="-157320"/>
            <a:ext cx="5537160" cy="6632640"/>
          </a:xfrm>
          <a:prstGeom prst="rect">
            <a:avLst/>
          </a:prstGeom>
          <a:ln w="0">
            <a:noFill/>
          </a:ln>
        </p:spPr>
      </p:pic>
      <p:sp>
        <p:nvSpPr>
          <p:cNvPr id="105" name="Oval 1027"/>
          <p:cNvSpPr/>
          <p:nvPr/>
        </p:nvSpPr>
        <p:spPr>
          <a:xfrm>
            <a:off x="-2050920" y="0"/>
            <a:ext cx="7974000" cy="6969240"/>
          </a:xfrm>
          <a:prstGeom prst="ellipse">
            <a:avLst/>
          </a:prstGeom>
          <a:solidFill>
            <a:srgbClr val="2b038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9"/>
          <p:cNvSpPr/>
          <p:nvPr/>
        </p:nvSpPr>
        <p:spPr>
          <a:xfrm>
            <a:off x="6554160" y="2695680"/>
            <a:ext cx="9183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6382080" y="2187720"/>
            <a:ext cx="808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1"/>
          <p:cNvSpPr/>
          <p:nvPr/>
        </p:nvSpPr>
        <p:spPr>
          <a:xfrm>
            <a:off x="5535360" y="1446120"/>
            <a:ext cx="85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an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2"/>
          <p:cNvSpPr/>
          <p:nvPr/>
        </p:nvSpPr>
        <p:spPr>
          <a:xfrm>
            <a:off x="6631920" y="1547640"/>
            <a:ext cx="53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33"/>
          <p:cNvSpPr/>
          <p:nvPr/>
        </p:nvSpPr>
        <p:spPr>
          <a:xfrm>
            <a:off x="14060520" y="-844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34"/>
          <p:cNvSpPr/>
          <p:nvPr/>
        </p:nvSpPr>
        <p:spPr>
          <a:xfrm>
            <a:off x="7569720" y="2462040"/>
            <a:ext cx="77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35"/>
          <p:cNvSpPr/>
          <p:nvPr/>
        </p:nvSpPr>
        <p:spPr>
          <a:xfrm>
            <a:off x="8488800" y="1415880"/>
            <a:ext cx="1000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6"/>
          <p:cNvSpPr/>
          <p:nvPr/>
        </p:nvSpPr>
        <p:spPr>
          <a:xfrm>
            <a:off x="6750360" y="3710160"/>
            <a:ext cx="145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7"/>
          <p:cNvSpPr/>
          <p:nvPr/>
        </p:nvSpPr>
        <p:spPr>
          <a:xfrm>
            <a:off x="7115040" y="4203720"/>
            <a:ext cx="2189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8"/>
          <p:cNvSpPr/>
          <p:nvPr/>
        </p:nvSpPr>
        <p:spPr>
          <a:xfrm>
            <a:off x="8296200" y="4987800"/>
            <a:ext cx="182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9"/>
          <p:cNvSpPr/>
          <p:nvPr/>
        </p:nvSpPr>
        <p:spPr>
          <a:xfrm>
            <a:off x="8119440" y="3562200"/>
            <a:ext cx="98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40"/>
          <p:cNvSpPr/>
          <p:nvPr/>
        </p:nvSpPr>
        <p:spPr>
          <a:xfrm>
            <a:off x="8481600" y="2063880"/>
            <a:ext cx="6120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42"/>
          <p:cNvSpPr/>
          <p:nvPr/>
        </p:nvSpPr>
        <p:spPr>
          <a:xfrm>
            <a:off x="6500880" y="5286240"/>
            <a:ext cx="296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outh-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43"/>
          <p:cNvSpPr/>
          <p:nvPr/>
        </p:nvSpPr>
        <p:spPr>
          <a:xfrm>
            <a:off x="7419960" y="835200"/>
            <a:ext cx="1166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88"/>
          <p:cNvSpPr/>
          <p:nvPr/>
        </p:nvSpPr>
        <p:spPr>
          <a:xfrm>
            <a:off x="0" y="0"/>
            <a:ext cx="9906120" cy="752400"/>
          </a:xfrm>
          <a:prstGeom prst="rect">
            <a:avLst/>
          </a:prstGeom>
          <a:gradFill rotWithShape="0">
            <a:gsLst>
              <a:gs pos="0">
                <a:srgbClr val="0592fb"/>
              </a:gs>
              <a:gs pos="100000">
                <a:srgbClr val="4718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89"/>
          <p:cNvSpPr/>
          <p:nvPr/>
        </p:nvSpPr>
        <p:spPr>
          <a:xfrm>
            <a:off x="1856160" y="177840"/>
            <a:ext cx="586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NGAPORE – AN ISLAND CIT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04"/>
          <p:cNvSpPr/>
          <p:nvPr/>
        </p:nvSpPr>
        <p:spPr>
          <a:xfrm>
            <a:off x="189000" y="4179960"/>
            <a:ext cx="5364000" cy="165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Island city st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Global Centre for Commerce, Finance, Industry, Communications and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Total land area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800 square kilometres</a:t>
            </a: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Total population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4.35 mill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99"/>
                </a:solidFill>
                <a:latin typeface="Arial"/>
              </a:rPr>
              <a:t>2007 Per Capita Gross National Income – </a:t>
            </a:r>
            <a:r>
              <a:rPr b="1" lang="en-US" sz="1500" spc="-1" strike="noStrike">
                <a:solidFill>
                  <a:srgbClr val="ffff99"/>
                </a:solidFill>
                <a:latin typeface="Arial"/>
              </a:rPr>
              <a:t>US$34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21"/>
          <p:cNvSpPr/>
          <p:nvPr/>
        </p:nvSpPr>
        <p:spPr>
          <a:xfrm>
            <a:off x="692280" y="4268880"/>
            <a:ext cx="43290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36" descr=""/>
          <p:cNvPicPr/>
          <p:nvPr/>
        </p:nvPicPr>
        <p:blipFill>
          <a:blip r:embed="rId2"/>
          <a:srcRect l="0" t="15970" r="0" b="12053"/>
          <a:stretch/>
        </p:blipFill>
        <p:spPr>
          <a:xfrm>
            <a:off x="0" y="6170760"/>
            <a:ext cx="2390760" cy="687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37"/>
          <p:cNvSpPr/>
          <p:nvPr/>
        </p:nvSpPr>
        <p:spPr>
          <a:xfrm>
            <a:off x="2247840" y="6172200"/>
            <a:ext cx="7658280" cy="685800"/>
          </a:xfrm>
          <a:prstGeom prst="rect">
            <a:avLst/>
          </a:prstGeom>
          <a:gradFill rotWithShape="0">
            <a:gsLst>
              <a:gs pos="0">
                <a:srgbClr val="3597e1"/>
              </a:gs>
              <a:gs pos="100000">
                <a:srgbClr val="480a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138"/>
          <p:cNvGrpSpPr/>
          <p:nvPr/>
        </p:nvGrpSpPr>
        <p:grpSpPr>
          <a:xfrm>
            <a:off x="9194760" y="6356520"/>
            <a:ext cx="388440" cy="343800"/>
            <a:chOff x="9194760" y="6356520"/>
            <a:chExt cx="388440" cy="343800"/>
          </a:xfrm>
        </p:grpSpPr>
        <p:sp>
          <p:nvSpPr>
            <p:cNvPr id="127" name="Rectangle 1139"/>
            <p:cNvSpPr/>
            <p:nvPr/>
          </p:nvSpPr>
          <p:spPr>
            <a:xfrm>
              <a:off x="9194760" y="6356520"/>
              <a:ext cx="388440" cy="343800"/>
            </a:xfrm>
            <a:prstGeom prst="rect">
              <a:avLst/>
            </a:prstGeom>
            <a:solidFill>
              <a:srgbClr val="b3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140"/>
            <p:cNvSpPr/>
            <p:nvPr/>
          </p:nvSpPr>
          <p:spPr>
            <a:xfrm>
              <a:off x="9289080" y="6525360"/>
              <a:ext cx="16812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41"/>
            <p:cNvSpPr/>
            <p:nvPr/>
          </p:nvSpPr>
          <p:spPr>
            <a:xfrm>
              <a:off x="9417240" y="6525360"/>
              <a:ext cx="16380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42"/>
            <p:cNvSpPr/>
            <p:nvPr/>
          </p:nvSpPr>
          <p:spPr>
            <a:xfrm>
              <a:off x="9194760" y="6525360"/>
              <a:ext cx="11088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Line 1143"/>
          <p:cNvSpPr/>
          <p:nvPr/>
        </p:nvSpPr>
        <p:spPr>
          <a:xfrm flipH="1">
            <a:off x="-360" y="6178680"/>
            <a:ext cx="9906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44"/>
          <p:cNvSpPr/>
          <p:nvPr/>
        </p:nvSpPr>
        <p:spPr>
          <a:xfrm>
            <a:off x="148896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45"/>
          <p:cNvSpPr/>
          <p:nvPr/>
        </p:nvSpPr>
        <p:spPr>
          <a:xfrm>
            <a:off x="2262240" y="6172200"/>
            <a:ext cx="0" cy="6858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47"/>
          <p:cNvSpPr/>
          <p:nvPr/>
        </p:nvSpPr>
        <p:spPr>
          <a:xfrm>
            <a:off x="1346760" y="63612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EF4-7A6B-4D0B-A9E4-38D8C5F79061}" type="slidenum">
              <a:rPr b="0" lang="en-US" sz="1600" spc="-1" strike="noStrike">
                <a:solidFill>
                  <a:srgbClr val="04d6e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68"/>
          <p:cNvSpPr/>
          <p:nvPr/>
        </p:nvSpPr>
        <p:spPr>
          <a:xfrm flipV="1">
            <a:off x="7223040" y="4586400"/>
            <a:ext cx="46080" cy="61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28"/>
          <p:cNvSpPr/>
          <p:nvPr/>
        </p:nvSpPr>
        <p:spPr>
          <a:xfrm>
            <a:off x="5905440" y="4140360"/>
            <a:ext cx="1346400" cy="583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475" descr=""/>
          <p:cNvPicPr/>
          <p:nvPr/>
        </p:nvPicPr>
        <p:blipFill>
          <a:blip r:embed="rId3"/>
          <a:stretch/>
        </p:blipFill>
        <p:spPr>
          <a:xfrm>
            <a:off x="208080" y="1076400"/>
            <a:ext cx="5325840" cy="299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77"/>
          <p:cNvSpPr/>
          <p:nvPr/>
        </p:nvSpPr>
        <p:spPr>
          <a:xfrm>
            <a:off x="2909880" y="6264360"/>
            <a:ext cx="53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d6ec"/>
                </a:solidFill>
                <a:latin typeface="Times New Roman"/>
              </a:rPr>
              <a:t>Transformation in VTE - </a:t>
            </a:r>
            <a:r>
              <a:rPr b="0" i="1" lang="en-US" sz="1200" spc="-1" strike="noStrike">
                <a:solidFill>
                  <a:srgbClr val="08dffc"/>
                </a:solidFill>
                <a:latin typeface="Times New Roman"/>
              </a:rPr>
              <a:t>The Singapore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ed720d"/>
              </a:gs>
              <a:gs pos="100000">
                <a:srgbClr val="fbad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2844720" y="723960"/>
            <a:ext cx="7061400" cy="5373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ey Tow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ganisational Excel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1992 – 2007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95360" y="504720"/>
            <a:ext cx="330120" cy="298440"/>
          </a:xfrm>
          <a:prstGeom prst="rect">
            <a:avLst/>
          </a:prstGeom>
          <a:solidFill>
            <a:srgbClr val="badda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54200" y="657360"/>
            <a:ext cx="330120" cy="298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36560" y="647640"/>
            <a:ext cx="392040" cy="438120"/>
          </a:xfrm>
          <a:prstGeom prst="rect">
            <a:avLst/>
          </a:prstGeom>
          <a:solidFill>
            <a:srgbClr val="e1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63720" y="380880"/>
            <a:ext cx="371520" cy="3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322360" y="76320"/>
            <a:ext cx="7512120" cy="6705360"/>
          </a:xfrm>
          <a:prstGeom prst="ellipse">
            <a:avLst/>
          </a:prstGeom>
          <a:noFill/>
          <a:ln w="9360">
            <a:solidFill>
              <a:srgbClr val="feee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ed720d"/>
              </a:gs>
              <a:gs pos="100000">
                <a:srgbClr val="fbad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1219320" y="1346040"/>
            <a:ext cx="8407440" cy="3975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Outc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reakthrough in Vo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echnic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360" y="504720"/>
            <a:ext cx="330120" cy="298440"/>
          </a:xfrm>
          <a:prstGeom prst="rect">
            <a:avLst/>
          </a:prstGeom>
          <a:solidFill>
            <a:srgbClr val="badda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54200" y="657360"/>
            <a:ext cx="330120" cy="298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36560" y="647640"/>
            <a:ext cx="392040" cy="438120"/>
          </a:xfrm>
          <a:prstGeom prst="rect">
            <a:avLst/>
          </a:prstGeom>
          <a:solidFill>
            <a:srgbClr val="e1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963720" y="380880"/>
            <a:ext cx="371520" cy="3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2394000" y="0"/>
            <a:ext cx="7512120" cy="6705720"/>
          </a:xfrm>
          <a:prstGeom prst="ellipse">
            <a:avLst/>
          </a:prstGeom>
          <a:noFill/>
          <a:ln w="9360">
            <a:solidFill>
              <a:srgbClr val="feee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8889840" y="6066000"/>
            <a:ext cx="5842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13110" r="0" b="9885"/>
          <a:stretch/>
        </p:blipFill>
        <p:spPr>
          <a:xfrm>
            <a:off x="0" y="981000"/>
            <a:ext cx="9906120" cy="5191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SQA Award 3"/>
          <p:cNvPicPr/>
          <p:nvPr/>
        </p:nvPicPr>
        <p:blipFill>
          <a:blip r:embed="rId2"/>
          <a:srcRect l="228" t="10738" r="609" b="5054"/>
          <a:stretch/>
        </p:blipFill>
        <p:spPr>
          <a:xfrm>
            <a:off x="830160" y="3530520"/>
            <a:ext cx="4759560" cy="24544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79800" y="63612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E369-74DF-435D-A713-1F039DA755A0}" type="slidenum">
              <a:rPr b="0" lang="en-US" sz="1600" spc="-1" strike="noStrike">
                <a:solidFill>
                  <a:srgbClr val="04d6e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634080" y="4494240"/>
            <a:ext cx="18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084480" y="2521080"/>
            <a:ext cx="32194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183200" y="2390760"/>
            <a:ext cx="1619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023840" y="527040"/>
            <a:ext cx="7820280" cy="3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5306"/>
                </a:solidFill>
                <a:latin typeface="Times New Roman"/>
              </a:rPr>
              <a:t>GLOBAL EXCELL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52360" y="1244520"/>
            <a:ext cx="6551640" cy="23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vard-IBM Innovations in Transforming Government  Award (2007)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5407200" y="0"/>
            <a:ext cx="4498920" cy="685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4244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047640" y="2775960"/>
            <a:ext cx="3341520" cy="9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cc"/>
                </a:solidFill>
                <a:latin typeface="Times New Roman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95280" y="5478480"/>
            <a:ext cx="46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ITE …, A JOURNEY THAT NEVER END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1:57:32Z</dcterms:created>
  <dc:creator>ITE</dc:creator>
  <dc:description/>
  <dc:language>en-US</dc:language>
  <cp:lastModifiedBy>ITE</cp:lastModifiedBy>
  <dcterms:modified xsi:type="dcterms:W3CDTF">2009-10-07T10:16:09Z</dcterms:modified>
  <cp:revision>773</cp:revision>
  <dc:subject/>
  <dc:title>PowerPoint Presentation</dc:title>
</cp:coreProperties>
</file>